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0CC-122C-4A3E-8236-B10E8E0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2D7-C71B-4BDA-B92B-25F8727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A03-B24B-4F17-938A-046E1C1A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619-7D48-4F88-8F3B-6DB71573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38E-9B81-4F4F-BCB2-14DE90CC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EB16-3995-4FCE-9014-7BB5DAB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5CAE-611A-49DF-8737-318BCE1D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C0CE-9751-406D-B015-B043424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B31-A3E9-4B2D-9466-F8F490DF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D88-8EC6-4039-85A2-488EB2D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F3E9-00A1-46CE-B8FF-04E69C7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6F6-CC13-48F6-82F1-658D5E0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31D-75BB-49C5-AF67-2751039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ADCD-4F33-44E8-A7F3-D4792B1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D695-D281-45FE-AFED-A031A39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EE53-5AB0-4539-B09F-30F8A063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8E82-83FC-49CE-A1AC-D1B4FD29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049-B9A3-4F47-B1C9-73B02A7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915-561E-4A23-94C0-4DC119A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53D-843A-4811-BB17-D8A2EC5E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CC8-5624-42E3-874B-DED1663D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B07-D696-4B8D-94F8-EC03A0E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016-30B5-4F83-AA09-A459CE1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23F-DFCC-437D-A79D-C04A647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87CF-BB90-41B8-A978-9C97C1174174}" type="slidenum">
              <a:rPr b="0" lang="bs-B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86D-9900-4825-95FF-8B81F0624CC3}" type="slidenum">
              <a:rPr b="0" lang="bs-B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bs-BA" sz="4400" spc="-1" strike="noStrike" u="sng">
                <a:solidFill>
                  <a:srgbClr val="000000"/>
                </a:solidFill>
                <a:uFillTx/>
                <a:latin typeface="Arial"/>
              </a:rPr>
              <a:t>omeopatij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f. Dragana Ignjatović Rist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Treba znati d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leči bolesnika, a ne obolele organe; otklanja uzrok, a ne samo posledice bole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nastoji da kod bolesne osobe stimuliše lični, prirodni kapacitet samoizleč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ski lekovi deluju tako da pomažu u samoodbrani organizma. Oni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as „pelcuju“ protiv bole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shvata bolest kao posledicu poremećaja u samom telu. Telo ima prirodnu odbranu koju homeopatski lekovi mogu stimulisati da bi izlečila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dređenu bolest, homeopatija nužno ide do samog njenog izvora.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nastoji da vrati poremećenu ravnotežu pacijenta upotrebom odgovarajućih prirodnih prepa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tkriva i primenjuje supstance koje su istovetne u rezonancijskim vibracijama tela, pa je potreban minimalni nivo vitalne energije, kako bi telo uopšte moglo da reaguje na homeopatski tret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Klasična homeopatija uzima u obzir emocionalna, mentalna i fizička svojstva</a:t>
            </a:r>
            <a:br>
              <a:rPr sz="3200"/>
            </a:b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pojed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Na osnovu potpune slike odlučuje koji lek treba odab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Homeopa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zima u obzir nivo energije pacijenta i način na koji osoba reaguje na okoli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su zainteresovani za razumevanje funkcija na mentalnom, emocionalnom i fizičkom nivou oso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eispoljeni emocionalni stres može prouzrokovati probleme u imunološkom sistemu, sistemu za varenje i tegobe u spavanju i komunik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S druge strane, fizički problemi rezultuju emocionalnim nemir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opšteno, svi predstavljeni problemi pacijenta, uključujući i bolest kao glavni problem, sklonost određenom ponašanju kao i pacijentove osobine, bitni su simptomi u homeopatskoj analizi. </a:t>
            </a:r>
            <a:br>
              <a:rPr sz="2400"/>
            </a:b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4000" spc="-1" strike="noStrike">
                <a:solidFill>
                  <a:srgbClr val="000000"/>
                </a:solidFill>
                <a:latin typeface="Arial"/>
              </a:rPr>
              <a:t>Homeopatska met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Primenjuje prirodne preparate koji u prirodi izazivaju simptome slične onima koje izazivaju bolest koju želimo izleč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lično se leči sličnim (</a:t>
            </a:r>
            <a:r>
              <a:rPr b="0" lang="bs-BA" sz="3200" spc="-1" strike="noStrike" u="sng">
                <a:solidFill>
                  <a:srgbClr val="000000"/>
                </a:solidFill>
                <a:uFillTx/>
                <a:latin typeface="Arial"/>
              </a:rPr>
              <a:t>Similia Simillubus Curentur</a:t>
            </a: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Arial"/>
              </a:rPr>
              <a:t>Hahnemann's conceptions, explanations, and appraisals were not static but evolved and hardened over the years, especially from 1796 to 181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8720" y="-30240"/>
            <a:ext cx="4754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Nesanica se leči preparatima od crne k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Kijavica, alergija ili prehlada pripravcima od luka (izaziva suzenje očiju i pečenje kao i navedene bole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osebno, </a:t>
            </a: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a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u obzir ne uzima samo istoriju bolesti i lokalne simptome, već i razne reakcije pacijenta na boju ili vrućinu, razne vremenske uslov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Značenje simptoma u homeopati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imptomi nisu činilac bolesti, već izraz otpora, nastojanje pogođenog organizma da prevaziđe probleme koji su ga obuz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Arial"/>
              </a:rPr>
              <a:t>Simptomi nisu dati nekom unapred određenom bolešću, nego su proizvedeni individualnosti osobe</a:t>
            </a:r>
            <a:br>
              <a:rPr sz="3200"/>
            </a:b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Arial"/>
              </a:rPr>
              <a:t>Osoba se leči kao celina, a propisani lek deluje ne samo na lokalne simptome, nego i sve druge simpt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Arial"/>
              </a:rPr>
              <a:t>Pacijenti su često iznenađeni kad prilikom lečenja i izlečenja glavobolje ili zatvora, dođe do izlečenja od stresa, preterane osetljivosti ili nadraže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Istor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ipokr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ко 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400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godine pre nove ere, propisivanjem male doze korena mandragore za lečenje ludila (znao je da u mnogo većim dozama izaziva ludilo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2]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 16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veku, Paracelzus, začetnik farmakologije, objavio je da čoveka leči ono ono što ga čini bolesnim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3]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Arial"/>
              </a:rPr>
              <a:t>Cilj lečenja u homeopati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Cilj nije otklanjanje simptoma, nego prepoznavanje i otklanjanje uzroka simpt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ravi homeopatski lek je baziran na razumevanju celokupne osobe, radije nego na odgovoru na simptome određene bol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Arial"/>
              </a:rPr>
              <a:t>Homeopate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 prihvataju da organi i funkcije ljudskog tela podležu određenoj hijerarh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Homeopatska konsultac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 je potrebno da zna što više o pacijen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Opšti nivo energije, razvoj simptoma, način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ver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rva konsultacija obično traje jedan sat, retko du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Dužina trajanja homeopatskog tretmana zavisi od vrste poremećaja, težini, ali i od ličnim karakteristikama, nivoou energije i slič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Potrebno je uzeti u obzir vreme razvoja patolog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Odogovr se očekuje u prvih mesec dana (kod hroničnih simptoma). Kod akutnih- za nekoliko d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000" spc="-1" strike="noStrike">
                <a:solidFill>
                  <a:srgbClr val="000000"/>
                </a:solidFill>
                <a:latin typeface="Arial"/>
              </a:rPr>
              <a:t>Homeopat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Leči iznutra i često, spoljapnji simptomi (kožni simptomi)- posljednji nesta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vaki slučaj drugačiji te da ne postoje dva ista pacijent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 je pored medicinske dokumentacije i rezultata dijagnostičkih analiza, neophodno da stekne uvid u psihičko stanje, navike, želje, sklonosti, ponekad i snove pacije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400" spc="-1" strike="noStrike">
                <a:solidFill>
                  <a:srgbClr val="000000"/>
                </a:solidFill>
                <a:latin typeface="Arial"/>
              </a:rPr>
              <a:t>ŠTA HOMEOPATA TREBA DA ZNA O PACIJENTU I NJEGOVIM TEGOBAM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U cilju nalaženja pravog sredstva za pacijenta kao jedinstvenu individuu, homeopata treba da sazna mnogo podataka o nje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Detaljno sagledavanje ličnosti pacijenta, zajedno sa sagledavanjem svih tegoba i načina na koji to doživljava, homeopati su potrebni da bi pravilno procenio sluč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Otkrivanje opšteg energetskog stanja pacijenta i njegovih ranijih tegoba važno je koliko i način na koji pacijent ž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Tokom intervjua postavljaju se pitanja o naslednim faktorima, opis životne okoline, eventualni kontakti sa raznoraznim opasnim materijalima, sklonosti, uticaj vakcina i ranije preležanih infektivnih bolesti, pojave tokom trudnoće i porođaja, pojava retkih i neuobičajenih stanj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acijent treba da obavesti homeopatu o svim lekovima koja mu je njegov lekar propisao i drugim lekovima i sredstvima koje redovno upotreblj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Treba da pomene bilo koju raniju ili predstojeću stomatološku ili neku drugu hiruršku intervenci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Iskre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Nije neophodno, ali je poželjno prikupiti medicinsku dokumentaci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a poštuje integritet i privatnost ličnosti pacijenta u vezi svega što mu pacijent saopštava u poveren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Često se pacijentima objašnjava da dođu pripremljeni na uzimanje slučaja: da se sete svojih snova, hronologije događanja od ranog detinjstva, povreda, ružnih događaja, teško preležanih bolest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8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sko lečenje je dobro za stimulisanje  energije  i postizanje  ravnoteže  unutar  našeg  energetskog tel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trebno je pronaći načine za njegovanje naše duše prije nego se pojave problemi.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Važan dio osjećaja ispunjenosti je pronalaženje osjećaja smisla i svrhe svog života.  Mi smo sviskloni oklijevanju da napravimo zaokret ka potrazi za sopstvenom srećom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uviše  često  beskonačno  odlažemo  stavljanje  stvari  na  svoje  mesto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Što  duže  oklevamo,  to  se  više  identifikujemo  sa  negativnim  stanjem  i  teže  ga  se  oslobađam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Samjuel Haneman- homeopatija, posebno popularna krajem 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18. </a:t>
            </a: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Efikasnost homeopatskih preparata objašnjava se činjenicom da su homeopatske bolnice sterilnije od drugih,  za razliku od doktora toga vremena koji su uglavnom činili štetu, homeopate nisu činili ništa</a:t>
            </a:r>
            <a:r>
              <a:rPr b="0" lang="ru-RU" sz="3200" spc="-1" strike="noStrike">
                <a:solidFill>
                  <a:srgbClr val="20212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Odatle privid efikasnosti u poređenju sa potencijalno štetnim metodama toga vrem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U to vreme nije bilo moderne medicine ili naučne utemljenosti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202122"/>
                </a:solidFill>
                <a:latin typeface="Arial"/>
              </a:rPr>
              <a:t>Danas postoje objektivna merila efikasnosti lekova </a:t>
            </a:r>
            <a:r>
              <a:rPr b="0" lang="ru-RU" sz="3200" spc="-1" strike="noStrike" baseline="30000">
                <a:solidFill>
                  <a:srgbClr val="3366cc"/>
                </a:solidFill>
                <a:latin typeface="Arial"/>
              </a:rPr>
              <a:t>[14][1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ja 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čna disciplina kojoj je cilj da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aktivira imuni sistem i podstakne prirodni kapacitet samoizlečenja i samoodbranu organiz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ska terapija ne potiskuje simptome kojima se tijelo trudi uspostaviti prirodnu ravnotež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Homeopatija otkriva i primjenjuje supstance koje su istovetne energiji tela, stoga je potrebna minimalna količina vitalne energije kako bi telo moglo da regauje na homeopatski tretman.</a:t>
            </a: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Samuel Haneman</a:t>
            </a:r>
            <a:r>
              <a:rPr b="0" lang="sr-Latn-RS" sz="3800" spc="-1" strike="noStrike">
                <a:solidFill>
                  <a:srgbClr val="555555"/>
                </a:solidFill>
                <a:latin typeface="Arial"/>
              </a:rPr>
              <a:t>, </a:t>
            </a: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Organon</a:t>
            </a:r>
            <a:r>
              <a:rPr b="0" lang="sr-Latn-RS" sz="3800" spc="-1" strike="noStrike">
                <a:solidFill>
                  <a:srgbClr val="555555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202122"/>
                </a:solidFill>
                <a:latin typeface="Arial"/>
              </a:rPr>
              <a:t>(1755—184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Simillimum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sličnost) – bolest se leči lekom koji izaziva simptome jednake bolesti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bolest izaziva povišenu temperaturu prepisaće se lek koji pojačava temperaturu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Dinamizacij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razređivanje) – rastvor se razređuje destilovanom vodom ili alkoholom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. 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ko je u pitanju tvrda stvar, laktozom u procesu zvanom trituracija. Odnos označava potenciju le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Sukusija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mešanje) – razređen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i r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astvor</a:t>
            </a:r>
            <a:r>
              <a:rPr b="0" lang="sr-Latn-RS" sz="2000" spc="-1" strike="noStrike">
                <a:solidFill>
                  <a:srgbClr val="555555"/>
                </a:solidFill>
                <a:latin typeface="Arial"/>
              </a:rPr>
              <a:t>i 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se mešaju velikim brz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55555"/>
                </a:solidFill>
                <a:latin typeface="Arial"/>
              </a:rPr>
              <a:t>Holizam</a:t>
            </a:r>
            <a:r>
              <a:rPr b="0" lang="en-GB" sz="2000" spc="-1" strike="noStrike">
                <a:solidFill>
                  <a:srgbClr val="555555"/>
                </a:solidFill>
                <a:latin typeface="Arial"/>
              </a:rPr>
              <a:t> (celovitost) – homeopate posmatraju čoveka kao celinu i bolest shvataju kao stanje neravnoteže. Lekovima pokušavaju da uspostave ponovo energetsku ravnotežu – homeost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55555"/>
                </a:solidFill>
                <a:latin typeface="Arial"/>
              </a:rPr>
              <a:t>dr. Constantine Hering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a) od gore prema dole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b) iznutra ka spolja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c) iz centra ka periferiji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d) od važnijih prema manje važnim organima </a:t>
            </a:r>
            <a:br>
              <a:rPr sz="3200"/>
            </a:br>
            <a:r>
              <a:rPr b="0" lang="en-GB" sz="3200" spc="-1" strike="noStrike">
                <a:solidFill>
                  <a:srgbClr val="555555"/>
                </a:solidFill>
                <a:latin typeface="Arial"/>
              </a:rPr>
              <a:t>e) u obrnutom redosledu od njihovog nastanka (simpt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ski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rati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za različite tegobe mogu se po potrebi koristiti zajed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Homeopatija koristi prirodne sastojke biljnog, mineralnog i životinjskog 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, </a:t>
            </a:r>
            <a:r>
              <a:rPr b="0" lang="bs-BA" sz="2400" spc="-1" strike="noStrike">
                <a:solidFill>
                  <a:srgbClr val="000000"/>
                </a:solidFill>
                <a:latin typeface="Arial"/>
              </a:rPr>
              <a:t>a mogu se koristiti i supstance biološkog i mikrobiološkog 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Kako homeopatija delu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Filozofija </a:t>
            </a: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homeopatije- 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um, telo i emocije nisu razdvoj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Svako iskustvo koje smo imali može ostaviti trag u telu ili emotivnoj sfe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Homeopatski proces </a:t>
            </a: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počinje razgovorom u kom homeopata postavlja veliki broj pitanja kako bi dobio kompletnu sliku onoga što se događa u telu pacijenta, kako na mentalnom, tako i na telesnom planu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bs-B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7:33:49Z</dcterms:created>
  <dc:creator>user</dc:creator>
  <dc:description/>
  <dc:language>en-US</dc:language>
  <cp:lastModifiedBy>Dragana Ignjatovic Ristic</cp:lastModifiedBy>
  <dcterms:modified xsi:type="dcterms:W3CDTF">2023-12-03T19:55:45Z</dcterms:modified>
  <cp:revision>11</cp:revision>
  <dc:subject/>
  <dc:title>Anamneza i klinička slika u homeopatiji</dc:title>
</cp:coreProperties>
</file>